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C396-9840-4530-B2B5-B13AC3EEA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2000-2413-478E-88FD-392B0E3B11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099F-302F-4C2E-8F3F-D84E50FF1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AF9E-E8DA-4AC0-AFDC-0D10C62409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806-7D8D-4D6C-A14A-BEAC08A373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01DE-C3CA-4A2F-B923-9D3B23FA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F465-80A1-4592-91E8-CC176F01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A3A8-C043-4645-83B6-93286A18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C124-AFD3-4B4F-847F-B3AA8BD3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3BA3-06A9-4893-B568-DC6383C0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0AAA-B6C5-4BE0-9B0B-65237120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D7BE-F1EC-47C6-B35E-38BA6B1E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D0FD-7698-43E7-9626-C9A37C62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A448-BAE2-4F49-86CE-D121FBA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EACB-E23F-478E-9361-B84EB38A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558C-10AF-4FE1-AB01-5B30120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EFC2-83E4-4967-B23E-09978EE0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49D3-FD74-410C-A00A-3071089F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ECB8-71F3-4FEA-A615-BC6C325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04D1-5E27-47F8-BF6B-CE701A35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037E-29C2-4800-87B2-6E77D5A4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E24F-350F-4B3B-873D-0B2A4F9D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C8D3-FE68-4C69-BFF8-87B06873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A931-3058-4E86-895F-4883F646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D679-79A7-4ECD-B8BD-6C145684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1559-BC30-4FF4-A7EF-5C0EA654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B15D-DC36-4636-8C2D-2A4414D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6902-F46B-4967-A69F-7C79159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8890-63E9-4619-B275-FCDECC5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4822-5624-4795-8210-F0366AFBE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A2A9-E147-4094-B791-2DC5DA9830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uscular System </a:t>
            </a:r>
            <a:br>
              <a:rPr sz="6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600 Muscle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5" descr="ZOO%20234%20Muscular%20System%20Anterior%20View"/>
          <p:cNvPicPr/>
          <p:nvPr/>
        </p:nvPicPr>
        <p:blipFill>
          <a:blip r:embed="rId1"/>
          <a:stretch/>
        </p:blipFill>
        <p:spPr>
          <a:xfrm>
            <a:off x="3200400" y="1676520"/>
            <a:ext cx="274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dy Mov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exing of the hamst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knee muscle anatomy diagram - hamstrings (Image credit: Seif Medical Graphics)"/>
          <p:cNvPicPr/>
          <p:nvPr/>
        </p:nvPicPr>
        <p:blipFill>
          <a:blip r:embed="rId1"/>
          <a:stretch/>
        </p:blipFill>
        <p:spPr>
          <a:xfrm>
            <a:off x="4876920" y="1676520"/>
            <a:ext cx="3581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dy Movements cont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on of the quadrice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Knee muscle anatomy diagram - quadriceps (Image credit: Seif Medical Graphics)"/>
          <p:cNvPicPr/>
          <p:nvPr/>
        </p:nvPicPr>
        <p:blipFill>
          <a:blip r:embed="rId1"/>
          <a:stretch/>
        </p:blipFill>
        <p:spPr>
          <a:xfrm>
            <a:off x="3886200" y="1712880"/>
            <a:ext cx="48769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scle Pai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muscles work in teams to move your body.  An example of this is your Bicep and Tricep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2721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9096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2" name=""/>
          <p:cNvSpPr/>
          <p:nvPr/>
        </p:nvSpPr>
        <p:spPr>
          <a:xfrm flipH="1" flipV="1">
            <a:off x="3200400" y="837720"/>
            <a:ext cx="1447920" cy="38124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1800" y="1600200"/>
            <a:ext cx="838080" cy="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943600" y="1981080"/>
            <a:ext cx="762120" cy="15264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029200" y="2514600"/>
            <a:ext cx="1600200" cy="7632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895480" y="3352680"/>
            <a:ext cx="1447920" cy="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038480"/>
            <a:ext cx="990720" cy="22860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5029200"/>
            <a:ext cx="1067040" cy="30492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57200"/>
            <a:ext cx="102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609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Trapezi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1447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Deltoi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828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Tricep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22096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Latissimus Dors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312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Gluteus Maxim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6613560" y="39736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Hamstrin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181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Gastrocnemi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 types of mus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ooth Muscles- Which include the muscles of internal organs and blood vessels.  These muscles move involuntar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diac Muscle- Found only in the heart and also involuntar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letal Muscles- Are voluntary  and help you mov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scle Mov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untary- Automatically move without you know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untary- Brain sends message to muscle.  You control the moveme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486400" cy="609624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14" name="Line 3"/>
          <p:cNvSpPr/>
          <p:nvPr/>
        </p:nvSpPr>
        <p:spPr>
          <a:xfrm>
            <a:off x="6095880" y="3200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5"/>
          <p:cNvSpPr/>
          <p:nvPr/>
        </p:nvSpPr>
        <p:spPr>
          <a:xfrm flipH="1" flipV="1">
            <a:off x="3200040" y="53352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Straight Connector 7"/>
          <p:cNvSpPr/>
          <p:nvPr/>
        </p:nvSpPr>
        <p:spPr>
          <a:xfrm flipH="1" flipV="1">
            <a:off x="3200040" y="761760"/>
            <a:ext cx="1066680" cy="1522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Straight Connector 10"/>
          <p:cNvSpPr/>
          <p:nvPr/>
        </p:nvSpPr>
        <p:spPr>
          <a:xfrm flipH="1" flipV="1">
            <a:off x="3352680" y="1218960"/>
            <a:ext cx="990720" cy="1522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Straight Connector 12"/>
          <p:cNvSpPr/>
          <p:nvPr/>
        </p:nvSpPr>
        <p:spPr>
          <a:xfrm flipH="1" flipV="1">
            <a:off x="2895480" y="1599840"/>
            <a:ext cx="914400" cy="2286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Straight Connector 15"/>
          <p:cNvSpPr/>
          <p:nvPr/>
        </p:nvSpPr>
        <p:spPr>
          <a:xfrm flipH="1">
            <a:off x="2743200" y="2286000"/>
            <a:ext cx="4572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Straight Connector 17"/>
          <p:cNvSpPr/>
          <p:nvPr/>
        </p:nvSpPr>
        <p:spPr>
          <a:xfrm flipH="1">
            <a:off x="2819160" y="2666880"/>
            <a:ext cx="990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Straight Connector 19"/>
          <p:cNvSpPr/>
          <p:nvPr/>
        </p:nvSpPr>
        <p:spPr>
          <a:xfrm flipH="1">
            <a:off x="4800240" y="2590200"/>
            <a:ext cx="1523880" cy="2286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Straight Connector 22"/>
          <p:cNvSpPr/>
          <p:nvPr/>
        </p:nvSpPr>
        <p:spPr>
          <a:xfrm flipH="1">
            <a:off x="2819520" y="3657600"/>
            <a:ext cx="1295280" cy="5335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Straight Connector 25"/>
          <p:cNvSpPr/>
          <p:nvPr/>
        </p:nvSpPr>
        <p:spPr>
          <a:xfrm flipH="1">
            <a:off x="5181480" y="4267080"/>
            <a:ext cx="9144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Straight Connector 27"/>
          <p:cNvSpPr/>
          <p:nvPr/>
        </p:nvSpPr>
        <p:spPr>
          <a:xfrm flipH="1">
            <a:off x="2971800" y="5029200"/>
            <a:ext cx="990720" cy="763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Straight Connector 29"/>
          <p:cNvSpPr/>
          <p:nvPr/>
        </p:nvSpPr>
        <p:spPr>
          <a:xfrm>
            <a:off x="4876920" y="5715000"/>
            <a:ext cx="12189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Straight Connector 32"/>
          <p:cNvSpPr/>
          <p:nvPr/>
        </p:nvSpPr>
        <p:spPr>
          <a:xfrm>
            <a:off x="5029200" y="914400"/>
            <a:ext cx="121932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ight Brace 33"/>
          <p:cNvSpPr/>
          <p:nvPr/>
        </p:nvSpPr>
        <p:spPr>
          <a:xfrm>
            <a:off x="4952880" y="68580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800 h 457200"/>
              <a:gd name="textAreaBottom" fmla="*/ 455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51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Box 34"/>
          <p:cNvSpPr/>
          <p:nvPr/>
        </p:nvSpPr>
        <p:spPr>
          <a:xfrm>
            <a:off x="2362320" y="457200"/>
            <a:ext cx="1143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Occul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190512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Sternomastoi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Box 42"/>
          <p:cNvSpPr/>
          <p:nvPr/>
        </p:nvSpPr>
        <p:spPr>
          <a:xfrm>
            <a:off x="1905120" y="13716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Pectoralis Major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Box 43"/>
          <p:cNvSpPr/>
          <p:nvPr/>
        </p:nvSpPr>
        <p:spPr>
          <a:xfrm>
            <a:off x="1905120" y="19810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Bicep Brachi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Box 44"/>
          <p:cNvSpPr/>
          <p:nvPr/>
        </p:nvSpPr>
        <p:spPr>
          <a:xfrm>
            <a:off x="1905120" y="259092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xternal Obliqu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Box 46"/>
          <p:cNvSpPr/>
          <p:nvPr/>
        </p:nvSpPr>
        <p:spPr>
          <a:xfrm>
            <a:off x="1981080" y="40384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Sartori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Box 48"/>
          <p:cNvSpPr/>
          <p:nvPr/>
        </p:nvSpPr>
        <p:spPr>
          <a:xfrm>
            <a:off x="2133720" y="48769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xtensor Digitoru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Box 51"/>
          <p:cNvSpPr/>
          <p:nvPr/>
        </p:nvSpPr>
        <p:spPr>
          <a:xfrm>
            <a:off x="6172200" y="5562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Tibialis Anterior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Box 52"/>
          <p:cNvSpPr/>
          <p:nvPr/>
        </p:nvSpPr>
        <p:spPr>
          <a:xfrm>
            <a:off x="60958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Quadricep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Box 54"/>
          <p:cNvSpPr/>
          <p:nvPr/>
        </p:nvSpPr>
        <p:spPr>
          <a:xfrm>
            <a:off x="6324480" y="2438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Abdomina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Box 56"/>
          <p:cNvSpPr/>
          <p:nvPr/>
        </p:nvSpPr>
        <p:spPr>
          <a:xfrm>
            <a:off x="6324480" y="8380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Facial Buccinator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uscl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ooth Muscle- Digestive organs, Makes up 7-8% of your muscl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unta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smooth"/>
          <p:cNvPicPr/>
          <p:nvPr/>
        </p:nvPicPr>
        <p:blipFill>
          <a:blip r:embed="rId1"/>
          <a:stretch/>
        </p:blipFill>
        <p:spPr>
          <a:xfrm>
            <a:off x="5791320" y="3124080"/>
            <a:ext cx="28573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uscles cont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diac Muscles- Only found in the hear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untar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s up 3% of your muscl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age 70 heart contracts 2.5 billion   times (assume resting heart bea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uscles cont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letal Muscles- Makes up 90% of your musc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untary- These are the muscles that you can mov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Inju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ain- Muscle “pull” or “strai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ring a muscle fiber(s), followed by bleeding or swelling of mus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cle Cramp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longed contraction of muscle, ion imbala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scle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xion- Movement that reduces a joint ang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on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ovement that increases a joint ang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1:37:55Z</dcterms:created>
  <dc:creator>42</dc:creator>
  <dc:description/>
  <dc:language>en-US</dc:language>
  <cp:lastModifiedBy>rdavis</cp:lastModifiedBy>
  <dcterms:modified xsi:type="dcterms:W3CDTF">2009-09-11T11:30:18Z</dcterms:modified>
  <cp:revision>9</cp:revision>
  <dc:subject/>
  <dc:title>Muscular System </dc:title>
</cp:coreProperties>
</file>